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0EB8-9E75-440D-BBA4-9765DFF1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795A-5267-4D0E-B02D-D82B1958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52FB-4D20-4C16-8DFE-17EDFD5C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95EC-F212-4D82-8E8C-042C1C17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7607-D9FB-4893-A626-7CD72C94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2D43-03C8-4271-9E7D-9A3B500A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1D07-E960-4C55-B314-E0D45E0D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04CC-F1EA-4AAC-AFD6-1F110BD7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6EB3-B369-493D-B715-1A08BD60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2B15-51EF-446A-9461-7864711D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52E1-FB19-4806-948C-361FC6FF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4B9B-A970-4A23-9E02-E01A5AB2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EBFD-6DD8-44B2-A40D-FB4338F1F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"/>
          <p:cNvGrpSpPr/>
          <p:nvPr/>
        </p:nvGrpSpPr>
        <p:grpSpPr>
          <a:xfrm>
            <a:off x="504720" y="3629160"/>
            <a:ext cx="8153640" cy="2706480"/>
            <a:chOff x="504720" y="3629160"/>
            <a:chExt cx="8153640" cy="2706480"/>
          </a:xfrm>
        </p:grpSpPr>
        <p:sp>
          <p:nvSpPr>
            <p:cNvPr id="42" name="Rectangle 4"/>
            <p:cNvSpPr/>
            <p:nvPr/>
          </p:nvSpPr>
          <p:spPr>
            <a:xfrm>
              <a:off x="1752840" y="5954760"/>
              <a:ext cx="5639040" cy="3808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Rectangle 5"/>
            <p:cNvSpPr/>
            <p:nvPr/>
          </p:nvSpPr>
          <p:spPr>
            <a:xfrm>
              <a:off x="4343760" y="4735440"/>
              <a:ext cx="457200" cy="12189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1676520" y="4583160"/>
              <a:ext cx="5791320" cy="152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Rectangle 7"/>
            <p:cNvSpPr/>
            <p:nvPr/>
          </p:nvSpPr>
          <p:spPr>
            <a:xfrm>
              <a:off x="1676520" y="3897360"/>
              <a:ext cx="152280" cy="838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Rectangle 8"/>
            <p:cNvSpPr/>
            <p:nvPr/>
          </p:nvSpPr>
          <p:spPr>
            <a:xfrm>
              <a:off x="7315920" y="3897360"/>
              <a:ext cx="152280" cy="838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Oval 9"/>
            <p:cNvSpPr/>
            <p:nvPr/>
          </p:nvSpPr>
          <p:spPr>
            <a:xfrm>
              <a:off x="504720" y="3629160"/>
              <a:ext cx="2514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Oval 10"/>
            <p:cNvSpPr/>
            <p:nvPr/>
          </p:nvSpPr>
          <p:spPr>
            <a:xfrm>
              <a:off x="6143760" y="3632400"/>
              <a:ext cx="2514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8:38:02Z</dcterms:created>
  <dc:creator>Jennifer Schwinghammer</dc:creator>
  <dc:description/>
  <dc:language>en-US</dc:language>
  <cp:lastModifiedBy>Jennifer Schwinghammer</cp:lastModifiedBy>
  <dcterms:modified xsi:type="dcterms:W3CDTF">2008-05-27T18:38:32Z</dcterms:modified>
  <cp:revision>1</cp:revision>
  <dc:subject/>
  <dc:title>Slide 1</dc:title>
</cp:coreProperties>
</file>